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F09-8FF8-4F21-BA9C-CA85500B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307-D1E8-4180-860B-8C4E4A52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AB6-C5B8-4F8E-A9E1-0F082BF9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F6F-CD0E-446A-B3D0-F269A11E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2D1F-F7B9-4593-9636-15A79E23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B226-4E07-47C6-B87B-29991985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D46-728E-4E11-8ED1-7057A275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B307-7AE6-42BB-B3EF-E850375D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A925-ACB8-4D8E-967D-C791237B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45C7-E4A3-4838-A13C-8885F792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0B76-E45F-41E3-B341-AE5944E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8A3-9E93-487E-8F8E-8076F355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656E-AB51-43B2-81C8-DB9C4AE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484C-B50C-4ED2-9DC9-5DD9D2A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0FD2-BF14-4E1E-BBE4-CA18284D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CEA7-1AE0-48A1-9FAF-7BA2D4C8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E034-4199-4B5A-BB3B-9103AF15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208B-02E1-4A5A-9E61-30A336E0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C86B-CCC6-42E1-A2BE-20DDC842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EA25-8B94-4C12-A390-1D01E28F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6BB8-BBD8-49FA-A84F-575B1BB3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58F0-DCDC-421D-B557-6B871442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EBE-93AE-4949-AB9A-34D0440A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E64D-4546-47F9-A255-58D42FE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148C-7F28-4C6B-8AA7-C027096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F1FB9-AA79-4E79-ACC2-4B1BBB4C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FD5B-BCE7-446A-B544-BDC3DD4D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23C5-6280-44D5-A99A-26C6645F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C05A-D177-4E24-A71E-5FC399D9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1428-73C6-4B9A-9A52-6D68C2A4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E1C6-1B43-4876-89C0-F578EAF9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1D742-6CC0-4B5B-8194-06CAC62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AB60-F8D3-4C6D-84EE-63FDC3F0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9BA-74BD-4C06-997F-88DFD661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2EC5-4641-4BF7-9096-87B666F3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8CFA-F597-4D68-ABF1-7B8D5CB3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91860-8388-4F8A-836B-9CA0174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D9AF-A27E-4D9D-ACB1-9E3F24C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6769-95BE-43A7-9943-646DDC8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3CD9A-874C-4B2D-A335-A77386B0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7B22-64CC-489C-ADA8-90B4E7D5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09A6-A651-4F67-A7A9-A4D69730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82B89-C911-44B9-8E7D-C50527A6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94C3-D78F-4E17-818B-4178BDB1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2AB-62ED-466E-91AF-3C1964D0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802C-0F5A-4592-B620-776C4BAB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7636-3629-41AC-8DFF-CF236395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559B3-222F-42BC-B69D-26E512C4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C3840-1C27-4FA6-86CA-F8BB26AD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5D01-CF77-4C5B-97FC-0A8821CC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7B5F-3775-4865-B018-2ACE7B2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9697-E1CD-4DAA-9DAF-504A6614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D335-5AA8-4E24-87C9-87BE65D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277B-B782-42A6-920C-6602913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8350-D884-47DC-9268-A4E615EF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3AB-C352-4676-A3B6-FCE6B5ED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B932F-E398-4150-A83C-6E8B59CF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0A2-9D1B-4F66-90E0-0E8FD0D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022-6AED-45B9-99EA-524DA0D5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9FE-FA4A-470B-81B1-9CBD45BD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42DC-BA9A-4E69-AC37-CFBAFE654E1E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B5B-F7A6-41B0-95FF-823EDD29C349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3A0-FBCB-40DD-B934-9E5DE11CFD95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30E2-6900-4CAB-9260-F12FCA7BF598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360F-9BF3-4EF6-B4F6-1D04D1C75E95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5"/>
          <p:cNvSpPr/>
          <p:nvPr/>
        </p:nvSpPr>
        <p:spPr>
          <a:xfrm>
            <a:off x="1258920" y="476280"/>
            <a:ext cx="6697800" cy="6192720"/>
          </a:xfrm>
          <a:custGeom>
            <a:avLst/>
            <a:gdLst>
              <a:gd name="textAreaLeft" fmla="*/ 1528920 w 6697800"/>
              <a:gd name="textAreaRight" fmla="*/ 5168880 w 6697800"/>
              <a:gd name="textAreaTop" fmla="*/ 1413720 h 6192720"/>
              <a:gd name="textAreaBottom" fmla="*/ 47790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57120" y="27082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348000" y="37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 – (+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т- (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85880" y="1143000"/>
            <a:ext cx="764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 входит в основ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 двух корне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786800" y="571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изменить значение слова на противоположно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мет превратить в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леньк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сколько суффиксов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олько одна  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слова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н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являются однокоренным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лолёд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два корн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но ли, что в приставка на –з и (-с)  перед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звонкими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ыми пишется 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,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перед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глухими – З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37000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32748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98100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рно ли, что слова белый, белая, белое, белые –  являются </a:t>
            </a:r>
            <a:r>
              <a:rPr b="0" lang="ru-RU" sz="4800" spc="-1" strike="noStrike">
                <a:solidFill>
                  <a:srgbClr val="da1f28"/>
                </a:solidFill>
                <a:latin typeface="Arial"/>
              </a:rPr>
              <a:t>однокоренны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298360" y="496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042920" y="1268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евиз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Если правило ты знаеш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з запинки отвечаеш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YQTAR7CAHT7S23CA9K1OVBCA0FN4O2CA90I43JCAA3S870CA57NV95CATPEYGCCAJ0RSZ3CAHMUH3CCAS7YTKHCAD3MKK1CAI53JBECAU6HDVNCABYZJ9QCASXJXMUCAHFJG7DCAWDQ70RCA70BFI3CA6PS10R"/>
          <p:cNvPicPr/>
          <p:nvPr/>
        </p:nvPicPr>
        <p:blipFill>
          <a:blip r:embed="rId1"/>
          <a:stretch/>
        </p:blipFill>
        <p:spPr>
          <a:xfrm>
            <a:off x="5940360" y="4005360"/>
            <a:ext cx="25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55640" y="10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но ли, что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со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приставках, кроме приставок на -з ( с) и приставок  пре- и при- , пишутся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одинако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зависимо от произно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70000" y="5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8226720" y="42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39640" y="71280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но ли , что в корне слова после шипящих под удар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сег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ишется   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684360" y="1341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но ли, что буква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сле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шется в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корн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словах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на –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29836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ca478fc61bab81f033cd9834f430ec50"/>
          <p:cNvPicPr/>
          <p:nvPr/>
        </p:nvPicPr>
        <p:blipFill>
          <a:blip r:embed="rId1"/>
          <a:stretch/>
        </p:blipFill>
        <p:spPr>
          <a:xfrm>
            <a:off x="6300720" y="4149720"/>
            <a:ext cx="2460600" cy="2244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1763640" y="63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280" y="1484280"/>
            <a:ext cx="851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; 2 + ;3+; 4 -; 5 +; 6+; 7 -; 8 +; 9+; 10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+; 12+; 13-; 14+; 15+; 16-; 17- ; 18+;19 – ;20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Рисунок16"/>
          <p:cNvPicPr/>
          <p:nvPr/>
        </p:nvPicPr>
        <p:blipFill>
          <a:blip r:embed="rId1"/>
          <a:stretch/>
        </p:blipFill>
        <p:spPr>
          <a:xfrm>
            <a:off x="0" y="-171360"/>
            <a:ext cx="3311640" cy="4105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843280" y="620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РИТЕРИИ ОЦ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24000" y="393480"/>
            <a:ext cx="727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и ме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-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-15  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- 20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2222"/>
          <p:cNvPicPr/>
          <p:nvPr/>
        </p:nvPicPr>
        <p:blipFill>
          <a:blip r:embed="rId2"/>
          <a:stretch/>
        </p:blipFill>
        <p:spPr>
          <a:xfrm>
            <a:off x="673272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3333"/>
          <p:cNvPicPr/>
          <p:nvPr/>
        </p:nvPicPr>
        <p:blipFill>
          <a:blip r:embed="rId3"/>
          <a:stretch/>
        </p:blipFill>
        <p:spPr>
          <a:xfrm>
            <a:off x="6877080" y="2492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444"/>
          <p:cNvPicPr/>
          <p:nvPr/>
        </p:nvPicPr>
        <p:blipFill>
          <a:blip r:embed="rId4"/>
          <a:stretch/>
        </p:blipFill>
        <p:spPr>
          <a:xfrm>
            <a:off x="6948360" y="3429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5555"/>
          <p:cNvPicPr/>
          <p:nvPr/>
        </p:nvPicPr>
        <p:blipFill>
          <a:blip r:embed="rId5"/>
          <a:stretch/>
        </p:blipFill>
        <p:spPr>
          <a:xfrm>
            <a:off x="7093080" y="4365720"/>
            <a:ext cx="763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114300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еми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я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одно и то ж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главная значимая  часть сло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изменяемой частью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785880" y="114300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ужат для образования форм одного  и того же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-   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это часть слова без оконч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корни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 из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й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уквы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у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юбого</a:t>
            </a:r>
            <a:r>
              <a:rPr b="1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лова есть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11T17:37:51Z</dcterms:modified>
  <cp:revision>44</cp:revision>
  <dc:subject/>
  <dc:title>Слайд 1</dc:title>
</cp:coreProperties>
</file>